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9345-E318-41A2-AA0F-0FF72601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E404-FBCF-476C-AA46-016C1964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D591-DAC1-4076-9359-6DF331E1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1425-255D-4850-9C76-3786ED36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16C1-8D1E-4639-A8E6-8B908A7C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9117-4EC9-4606-9074-D3AC33A1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201C-EACB-4F0E-B406-2B320E6B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A4CB-B692-4868-9949-4B4F187A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E93D-FE7C-403D-8978-CC535623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E070-6D4C-4161-966A-4AD49C59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AA13-2FBF-4738-9042-6AEC1008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6DF1-5F18-42D1-AF9A-8C80EF93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836F-25C4-4721-93B4-A0D7D785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16B1-0F9B-4B95-881E-EE5FBDBF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C579-2790-42FF-AE81-EE1EE66D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1313-C558-4E64-94CA-1D59D07F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2100-F6E6-4681-81AD-CBB8FB1B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1468-13E7-45B6-9425-45BC2EA5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8CFE-C86E-40E3-8312-F1671F3F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AE2D-DE66-4143-BC32-7DD6F277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9272-C586-4C09-9B18-64F20E8F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5463-0047-4656-8C5A-FCAA19A9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61BF-49A4-48EB-9A5D-073C9772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E569-F6C4-446C-AD83-91AAEED4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0423-EB05-41C0-A03D-518FE969806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789B-81A6-44AD-83FE-68B15ACED6F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685440"/>
            <a:ext cx="87138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Блочно-модульное построение учебного материала в рамках компетентностного подхода к образованию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Что такое компетенции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и представляют собой сочетание характеристик (относящихся к знанию и его при-менению, к позициям, навыкам и ответственности), которые описывают уровень или степень, до которой некоторое лицо способно эти компетенции реализов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ыми словами, «компетенция или компетентность, есть некоторое интегративное качество субъекта, включающее в себя когнитивные, мотивационные, ценностные и практические аспекты, которое проявляется в успешных действиях в какой-либо области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ение модульной системы обучения самым непосредственным образом связано с построением новых федеральных образовательных стандартов на основе введения компетентностного подхода к организации учебного процесса, когда освоение определенного модуля приводит к формированию соответствующего набора компетенц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000" y="1699920"/>
            <a:ext cx="86756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понятие модуля в качестве необходимых компонентов значения входят законченность, самостоятельность и комплексность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влечет за собой включение в понимание модуля таких смысловых составляющих, как: объединение содержательных, организационных, методических и технологических компонентов; единство теоретических и прикладных аспектов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руктурная связанность всего образовательного комплекса; совмещение в одной организационно-методической структуре дидактических целей, логически завершенной единицы учебного материала, методического руководства и системы контрол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ем предметно-логического содержания, входящего в модуль, может быть: и раздел дисциплины, и отдельная дисциплина, и комплекс дисциплин одной направленности и единый комплекс, включающий в себя совокупность дисциплин и практик, ведущих к достижению определенных компетенц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1547640" y="3357720"/>
            <a:ext cx="67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Надежда Геннадьевна, научный сотрудник от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ения ФГОС «ИРО ПК» (р.т. 8-34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12-21-99; с.т. 8-909-731-01-80, e-mai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ni1909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история вопро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ждение идей модульного обучения можно отнести к 60-м годам, когда С.Н.Постлезвайтт (США) предложил концепцию единиц содержания обучения, согласно которой малую порцию (единицу) учебного материала можно считать автономной темой и свободно интегрировать в программу занятий. С.Н.Постлезвaйтт называл эти единицы «микрокурсами», потом – «миникурсами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х содержание и объем определялись дидактическими задачами. Впервые миникypcы были внедрены и получили быстрое распространение в колледжах и университетах США.  Позднее эти понятия были обобщены в понятие "модуль" ("module") и, соответственно, "модульное обучение" ("modular instruction"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зарубежный опыт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ще всего понятие «модуль» можно встретить в образовательных программах Германии. Модульный принцип здесь важен уже на этапе создания новой образовательной программ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тивно используется понятие «модуль» и в образовательных программах  университетов Великобритании. Многие из них переходят на принцип модульного обучения в последние годы. Эта структура обеспечивает высокую гибкость при выборе и комбинации учебных курсов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зарубежный опыт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ули - это самостоятельные, независимые обучающие единицы, срок освоения которых, как правило, длится один семестр и оценивается в 10 зачетных единиц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дуль оценивается индивидуально после его освоения. Методы оценки включают письменные и устные экзамены, курсовые работы, подготовку проектов, экзамены по практик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569440" cy="120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Модульно – компетентностный подход в российской системе образования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699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одимую систему обучения логично именовать модульно-компетентностной, т. к. ее основные элементы - модули и компетенции выступают как тесно взаимосвязанные и взаимодополняющие друг друга компоненты единого цело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дуль может осваиваться независимо, а их совокупность позволяет достичь итоговой компетентности в профессиональной сфе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963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Преимущества модульного построения образовательных программ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ясно и четко формулировать цели и задачи программ обуч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дивидуализация учебного процесса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гибкости программ обуч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ность формирования стандартных, объективных, независимых условий оценки качества освоения программ обуч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Что такое модуль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Отделяемая, относительно самостоятельная часть какой-либо системы, организации, устройства»» (Современный словарь иностранных слов. - М., 1993. - 389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Часть прибора или конструкция, собранная из типовых деталей и имеющая многоцелевое применение» (Словарь русского языка в 4-х томах. - Т.2. - М., 1982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. 287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Вообще отделяемая, относительно самостоятельная часть какой-нибудь системы, организации» (Ожегов С.И. и Шведова Н.Ю. Толковый словарь русского языка. - М., 1999. - С.361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68000" y="260280"/>
            <a:ext cx="8280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аким образом, модуль представляет собой относительно самостоятельную единицу образовательной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правленную на формирование определенной компетенции или группы компетенци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ыми словами, модуль - это законченная единица образовательной программы, формирующая одну или несколько определенных компетенций, сопровождаемая контролем знаний и умений обучаемых на выход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ответственно, модульная образовательная программа - это совокупность и последовательность модулей, направленная на овладение определенными компетенциям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11280" y="188640"/>
            <a:ext cx="8137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специальной литературе выделяются следующие уровни применения модульной системы обучени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изший уровень - модульная система применяется лишь для контроля успеваем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едний уровень - по модульной системе связываются отдельные дисциплин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сший уровень - модульная система обучения связывает все дисциплины учебного плана, т. е. обучение ведется по модульному учебному план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Jakovleva-NG</cp:lastModifiedBy>
  <dcterms:modified xsi:type="dcterms:W3CDTF">2019-05-16T05:56:12Z</dcterms:modified>
  <cp:revision>16</cp:revision>
  <dc:subject/>
  <dc:title>«Деление ядер урана»</dc:title>
</cp:coreProperties>
</file>